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AB4-39A8-4DF8-B278-9D507361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BCF-20F9-4CEB-804B-0220D3E4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3A5-0FBB-4787-ABB2-1EC6CB9E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433-56D9-4315-9346-B5EAF8D1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316-4D0A-4545-905C-12B19EDC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AB7-3D19-4917-8D71-C098D9CB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344-803C-4DE2-97CB-656FD9F3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576-7C1B-4254-9A7E-30567B3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E74-DA69-48C3-B5CF-C63B50D7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A61-0A04-484E-8178-14A89E5F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430-E76E-445A-A8D2-80353FD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07F-4D78-49A3-B453-04EC2C7B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B70D-0235-4EC0-9FB5-5CFC72BFBC13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2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52760" y="635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426F-7084-4870-A5F9-B654D9575BB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Project Plann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&gt; Software &lt;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C1C-705F-46FC-AE34-A6531EA2AD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HW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oul Erik Rask</a:t>
            </a:r>
            <a:r>
              <a:rPr b="0" lang="en-US" sz="36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 technical project leader of ODM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5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5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6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FX6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75 (Taiwan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Hardware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116-9797-4650-8DC9-951B46B4B2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IM/DL: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llan Hansen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Software and Integration Manager of Projects lik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oC for Ulysses Refres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generation software platform”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roject leader Integration Management and Device Layer for JERRY (working 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77F-F858-438B-BB83-B4EBD65951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art Project Leaders (PPL) working in Aal / DK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Kokholm (JERRY: System Test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enus (ODM), S56 Marlin, Aries, Cormorant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andi Bak (JERRY: Layout / Production Data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, Hera, Cormora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Bach Kristensen (JERRY: Digital HW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56, C56, Janus, Venus, Robin, Wolf 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rne Bisgaard Kristensen (JERRY: EMC/Ant): Hera C65, C66, C70, C71, Pegasus AX75, AX76, AX7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ichael Brammer (JERRY: RF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P4000, Dual com 738, World 718, Dual com 439/939, Dual GSM 300, SP55, SX1, Hydra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1C1-D71A-4D2A-B47B-0A1B675B5D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SW:    Yang Yong Qiang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宋体"/>
              </a:rPr>
              <a:t>Software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65C-23D9-4FA2-A2BA-4289428612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Features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22B-4E88-41B1-9966-F92960F2C7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860-4BB9-4107-AD9F-ADF6457B9E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 years in software development and system testing for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Leader of the UI development team in Indi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C42-9700-45AE-A91B-756AA3AC54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 (messag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DD4-D241-42A2-9704-7FAFB4F156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825480"/>
            <a:ext cx="83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= list of all tasks to be performed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3880" y="1239840"/>
            <a:ext cx="839484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2A9-C1E0-4946-A72B-5D6A80100A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1760" y="1252440"/>
            <a:ext cx="8332560" cy="44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240-DFCA-4B95-BBF7-5ECB05903A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37B-3B09-4A94-B60C-B980E7DC0E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9040" y="1263600"/>
            <a:ext cx="83059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B14-86F6-43EB-8A92-4EE1A1C3B4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5920" y="992160"/>
            <a:ext cx="8346960" cy="48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5A8-FD5C-470D-AC56-C39AA79910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7880" y="976320"/>
            <a:ext cx="833940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434-A80B-483D-9989-04F8FF937B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7880" y="958680"/>
            <a:ext cx="8348760" cy="32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25D-924E-4ACC-8119-71EC41C2A7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4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680" y="950760"/>
            <a:ext cx="8324640" cy="36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509-7224-446F-A9F6-0C6A632BE9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3880" y="988920"/>
            <a:ext cx="839484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CF4-0EBE-4E49-BC7F-C645A4B525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7120" y="984240"/>
            <a:ext cx="839304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FFD-12F4-4D1F-A904-0A9125EB61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3880" y="985680"/>
            <a:ext cx="838548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9AF-A30D-4E63-8992-EC613BC943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7120" y="988920"/>
            <a:ext cx="8391600" cy="40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596-6E87-479E-A945-EBB9F17DC4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3880" y="982800"/>
            <a:ext cx="8390160" cy="38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D6D-5825-47CF-8606-F74479593A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Koh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Kheng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Y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Zh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CFA-0399-4542-8793-C1F5B1AA64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7120" y="981000"/>
            <a:ext cx="839628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5EC-2688-4C5F-950D-B8E4D27297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3880" y="976320"/>
            <a:ext cx="8404200" cy="391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54040" y="5175360"/>
            <a:ext cx="6112080" cy="82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193-5DC5-4B6B-9CFB-A3FCC6C6B5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6840" y="1752480"/>
            <a:ext cx="56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5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9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E20-02CB-41D3-95F5-DA5623C966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10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16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0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DEA-B146-443B-9E68-43661303E5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596-F7E1-47EB-A71F-5FAC235D4A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6064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45200" y="581652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02040" y="584820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9880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4240" y="5324400"/>
            <a:ext cx="1658880" cy="26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4</a:t>
            </a: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 Approval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42000" y="5324400"/>
            <a:ext cx="771480" cy="3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8D4-8CF6-4058-9A1E-30789F29988F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435-6D78-464E-B3B6-7955E29C0E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140-3536-41FB-B1F3-1B9B27947E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2F4-B13B-4E6A-8136-FC8D1466B7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eaning of Acrony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3722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Organization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QA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 = Quality Assur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W   = Hardw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MD    = Mechanical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System Te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LCM  = Lifecycle Manage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NPI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New Products Introduc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4772160" y="990720"/>
            <a:ext cx="4010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Project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PM = Category Product Man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-T = Technical Project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PM = Technical Produc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siness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373560"/>
            <a:ext cx="401004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Technic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il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  = Configu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I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Integration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DB = Component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DB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486-6C9D-4DE7-A33E-82F4BAEEA5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T:          Lars Bonde (Aalborg / Denmar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ODM projects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ebri GPRS module (developed in Fra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8 (Developed in FIN / DK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Luna (Developed in Taiwan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rs CC75 (Developed in Finland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Technical Project Leader of JERRY in Aalborg - responsible for all work-packages assigned to Aalbor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22F-04E2-4406-9617-993A5FF4A4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MD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hristian P. Nielsen 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mechanical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ual 909, Dual 909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era Nop1, 2 and 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rmorant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echanical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964-A46A-4535-80F8-88358D623F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12:12:17Z</dcterms:modified>
  <cp:revision>239</cp:revision>
  <dc:subject/>
  <dc:title>PowerPoint</dc:title>
</cp:coreProperties>
</file>